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2E6-5D51-4CC9-AC61-A6B81E69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F22-9542-4CD7-9090-E91345B2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923-EF14-444B-91E1-35801268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955-348A-471F-B567-A889A6B4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7FB-FB3D-49C6-B71C-831509F6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BE6-1DFE-47C0-8835-0BB91DF2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090-F444-44EB-9EA0-0D6FEA8D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560-FEED-4E2A-BC8F-D8182676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561-5838-4CFA-A34E-6633FB13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96C-A045-42F9-8EBE-128FF6A8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23A-87F1-4B3B-AFB6-DF2E4E3D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C06-A3C3-4EE4-9256-A4C6C530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2297-283B-476B-81A6-9EB41A160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son Belcher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ced One Photogra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4816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ting With Ligh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hos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151080" cy="4095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34689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 Coloring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Choice #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819160" cy="4191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1752480"/>
            <a:ext cx="38815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ortrai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31622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4800" y="11426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y Pic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036800"/>
            <a:ext cx="3581640" cy="276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3434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8:00:33Z</dcterms:created>
  <dc:creator>bal_akbelcher</dc:creator>
  <dc:description/>
  <dc:language>en-US</dc:language>
  <cp:lastModifiedBy>bal_akbelcher</cp:lastModifiedBy>
  <dcterms:modified xsi:type="dcterms:W3CDTF">2009-05-22T17:39:48Z</dcterms:modified>
  <cp:revision>5</cp:revision>
  <dc:subject/>
  <dc:title>Allison Belcher  Advanced One Photography </dc:title>
</cp:coreProperties>
</file>